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5B3-6890-4A9D-9809-120E7614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13F-B907-42B9-AA99-82D2F8D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0A0-6E5E-4595-ADAC-A5B9DE3B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3FE-A872-4624-A396-0CF7CF3C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1C7C-000D-4770-81E0-2CBB3C5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A47D-333F-4339-A660-EB4C29D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2A29-5745-4290-9F27-6865D579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D6D-75D4-4CA5-97BB-1917262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F86-3484-4904-97D0-CFE7649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D632-D750-401D-BBDE-E6254FF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1C5-97FC-44D7-B4E1-F5021425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0AA-5EF0-4135-83B2-103AADD8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CF8-3203-4C62-8710-F17D573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3D4F-8CE4-48F6-AD24-C2D2513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DF5E-5434-46D7-BD35-1AA1B7F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6674-C129-47EF-93C1-4BA238D6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7B8-5F9D-4EC5-B950-3AA773A3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4611-9620-410A-AC1C-14EBC253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DC3F-3855-4D70-A63E-F6AAF6A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A2AB-D971-4757-954F-DDFBF92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F43E-A179-4A35-ABC2-BF97269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B591-5DE9-4ADC-9096-48168B14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0DD-EA7C-4C41-9F5C-CE444FC5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0671-E3B6-45E3-B88E-BB64E3E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4890A-82B0-4F19-AFEC-D4F8FAE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C889-7C9C-488A-9BD2-89CDDBF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B72F-EFFB-44F3-80E1-ADCE56C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FB01-3304-42BD-8C16-70B9F18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59CA-0FE4-49C5-8C85-565AD030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1799-9DA3-4723-ABE1-20516CEA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CD33-EC37-426C-A6AB-3B20CE40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181B-3E52-465A-A83A-3E750CB4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E738-364A-4188-A254-4713ADFE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613-7652-4EB8-B796-CFAD015E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E273-68BD-4440-A60B-00A89616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5EDD-4594-4A7C-BDA4-D36D1D37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BA9E-BC05-4707-82A2-812C244F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09350-EA08-416D-A87D-2B5A4B7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BEC4-5EB7-47CE-9A46-5F533FD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4849-D021-49F1-851A-3FB4146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7B0A-920A-4D40-9CC5-7F1BA6E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920BC-CC1B-46A1-9C09-6AD45EEA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DC10B-2750-42EB-AD53-CD1AF8B8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6FD-E823-4911-B9A8-C371A4E8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5F6-88BC-4232-AF7D-DE1E7A6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72E-FDDE-42E8-B3FC-F81A615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8C6-977A-408C-91BB-9F76B65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D02-C153-4D27-8BA8-6CBD39C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132B-E43E-4FD0-8A64-BB2FDEADBC6A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27B-06BA-426C-B75B-E296D551BA4F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4CC-A4EE-4821-B5AF-1801D60FE905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C3F7-4572-450C-A5F0-2F9C786CD2C5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04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10" descr="http://t3.gstatic.com/images?q=tbn:ANd9GcQnhbGG7XQJXicQGvJ1kQXMPnF_Pz7tjS4qemDKzmd2mHBhWgFp"/>
          <p:cNvPicPr/>
          <p:nvPr/>
        </p:nvPicPr>
        <p:blipFill>
          <a:blip r:embed="rId2"/>
          <a:stretch/>
        </p:blipFill>
        <p:spPr>
          <a:xfrm>
            <a:off x="6019920" y="21337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Box 18"/>
          <p:cNvSpPr/>
          <p:nvPr/>
        </p:nvSpPr>
        <p:spPr>
          <a:xfrm>
            <a:off x="2438280" y="2286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te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14" descr="http://t2.gstatic.com/images?q=tbn:ANd9GcT6Lk268_GD83WOd56SB8101BhJ0wXhevpk4eXwWFmPVgA0gzm80g"/>
          <p:cNvPicPr/>
          <p:nvPr/>
        </p:nvPicPr>
        <p:blipFill>
          <a:blip r:embed="rId2"/>
          <a:stretch/>
        </p:blipFill>
        <p:spPr>
          <a:xfrm>
            <a:off x="30492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18"/>
          <p:cNvSpPr/>
          <p:nvPr/>
        </p:nvSpPr>
        <p:spPr>
          <a:xfrm>
            <a:off x="4267080" y="43434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co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32" descr="http://t2.gstatic.com/images?q=tbn:ANd9GcQcl3JATG3rXMp_1dsibe6P32vL0tQC8dBcs7iB_3wXXrrAuTRRrQ"/>
          <p:cNvPicPr/>
          <p:nvPr/>
        </p:nvPicPr>
        <p:blipFill>
          <a:blip r:embed="rId2"/>
          <a:stretch/>
        </p:blipFill>
        <p:spPr>
          <a:xfrm>
            <a:off x="3200400" y="441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18"/>
          <p:cNvSpPr/>
          <p:nvPr/>
        </p:nvSpPr>
        <p:spPr>
          <a:xfrm>
            <a:off x="2514600" y="2895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Yerba mat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24" descr="http://t3.gstatic.com/images?q=tbn:ANd9GcRePB6R0ON1KBY7irR_pOAleBTy6EkauaDZr1QsxpE8lwt-zVgiWw"/>
          <p:cNvPicPr/>
          <p:nvPr/>
        </p:nvPicPr>
        <p:blipFill>
          <a:blip r:embed="rId2"/>
          <a:stretch/>
        </p:blipFill>
        <p:spPr>
          <a:xfrm>
            <a:off x="6095880" y="4572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18"/>
          <p:cNvSpPr/>
          <p:nvPr/>
        </p:nvSpPr>
        <p:spPr>
          <a:xfrm>
            <a:off x="1752480" y="4648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kol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-79200" y="29844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"/>
          <p:cNvSpPr/>
          <p:nvPr/>
        </p:nvSpPr>
        <p:spPr>
          <a:xfrm>
            <a:off x="914400" y="1779480"/>
            <a:ext cx="678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lertn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somni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adach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rritabilit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ervousnes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ehydr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rin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0" y="378000"/>
            <a:ext cx="8693280" cy="1152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762120" y="160020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5 mg / kg of body weigh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-6 yrs. = 4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-9 yrs. = 62.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-12 yrs. = 85 m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dult = 400 mg (women 300 mg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838080" y="2286000"/>
            <a:ext cx="7010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uideline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atural vs, addi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ergy drink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affeine pill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lcohol and caffein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ocabula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26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1 oz = 237 m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stimulan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iureti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ddi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natura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ood &amp; Drug Regulatio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imula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gent, especially a drug, that causes increased activity, especially of the nervous or cardiovascular systems. Caffeine is a commonly used stimula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stimulant. (n.d.). The American Heritage® Science Dictionary. Retrieved February 03, 2013, from Dictionary.com website: http://dictionary.reference.com/browse/stimula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uret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ubstance or drug that tends to increase the discharge of urine. Diuretics are used in the treatment of high blood pressure, edema, and other medical condi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diuretic. (n.d.). The American Heritage® Science Dictionary. Retrieved February 03, 2013, from Dictionary.com website: http://dictionary.reference.com/browse/diuretic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i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thing that is added, as one substance to another, to alter or improve the general quality or to counteract undesirable properties: an additive that thins pai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dditive. (n.d.). Dictionary.com Unabridged. Retrieved February 03, 2013, from Dictionary.com website: http://dictionary.reference.com/browse/additiv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tur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, existing in, or produced by n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atural. (n.d.). Collins English Dictionary - Complete &amp; Unabridged 10th Edition. Retrieved February 03, 2013, from Dictionary.com website: http://dictionary.reference.com/browse/natur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8" descr="http://t1.gstatic.com/images?q=tbn:ANd9GcSiK5RMT_8Petg26Dzz4P791iFTeIkaYnD0Av8TFe4OcVQoh3U2"/>
          <p:cNvPicPr/>
          <p:nvPr/>
        </p:nvPicPr>
        <p:blipFill>
          <a:blip r:embed="rId2"/>
          <a:stretch/>
        </p:blipFill>
        <p:spPr>
          <a:xfrm>
            <a:off x="380880" y="2209680"/>
            <a:ext cx="2562480" cy="179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t3.gstatic.com/images?q=tbn:ANd9GcQnhbGG7XQJXicQGvJ1kQXMPnF_Pz7tjS4qemDKzmd2mHBhWgFp"/>
          <p:cNvPicPr/>
          <p:nvPr/>
        </p:nvPicPr>
        <p:blipFill>
          <a:blip r:embed="rId3"/>
          <a:stretch/>
        </p:blipFill>
        <p:spPr>
          <a:xfrm>
            <a:off x="6019920" y="21337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14" descr="http://t2.gstatic.com/images?q=tbn:ANd9GcT6Lk268_GD83WOd56SB8101BhJ0wXhevpk4eXwWFmPVgA0gzm80g"/>
          <p:cNvPicPr/>
          <p:nvPr/>
        </p:nvPicPr>
        <p:blipFill>
          <a:blip r:embed="rId4"/>
          <a:stretch/>
        </p:blipFill>
        <p:spPr>
          <a:xfrm>
            <a:off x="304920" y="44956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4" descr="http://t3.gstatic.com/images?q=tbn:ANd9GcRePB6R0ON1KBY7irR_pOAleBTy6EkauaDZr1QsxpE8lwt-zVgiWw"/>
          <p:cNvPicPr/>
          <p:nvPr/>
        </p:nvPicPr>
        <p:blipFill>
          <a:blip r:embed="rId5"/>
          <a:stretch/>
        </p:blipFill>
        <p:spPr>
          <a:xfrm>
            <a:off x="6095880" y="4572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6" descr="http://t0.gstatic.com/images?q=tbn:ANd9GcRGMf36gLcMkMQe-TiiCXyYVvBoES37Evv8x_YdWLNz9EQ3BpzW"/>
          <p:cNvPicPr/>
          <p:nvPr/>
        </p:nvPicPr>
        <p:blipFill>
          <a:blip r:embed="rId6"/>
          <a:stretch/>
        </p:blipFill>
        <p:spPr>
          <a:xfrm>
            <a:off x="3124080" y="22096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2" descr="http://t2.gstatic.com/images?q=tbn:ANd9GcQcl3JATG3rXMp_1dsibe6P32vL0tQC8dBcs7iB_3wXXrrAuTRRrQ"/>
          <p:cNvPicPr/>
          <p:nvPr/>
        </p:nvPicPr>
        <p:blipFill>
          <a:blip r:embed="rId7"/>
          <a:stretch/>
        </p:blipFill>
        <p:spPr>
          <a:xfrm>
            <a:off x="3200400" y="4419720"/>
            <a:ext cx="2467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8" descr="http://t1.gstatic.com/images?q=tbn:ANd9GcSiK5RMT_8Petg26Dzz4P791iFTeIkaYnD0Av8TFe4OcVQoh3U2"/>
          <p:cNvPicPr/>
          <p:nvPr/>
        </p:nvPicPr>
        <p:blipFill>
          <a:blip r:embed="rId2"/>
          <a:stretch/>
        </p:blipFill>
        <p:spPr>
          <a:xfrm>
            <a:off x="380880" y="2209680"/>
            <a:ext cx="2562480" cy="17910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TextBox 18"/>
          <p:cNvSpPr/>
          <p:nvPr/>
        </p:nvSpPr>
        <p:spPr>
          <a:xfrm>
            <a:off x="4114800" y="2286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ffe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AutoShape 2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6" descr="http://t0.gstatic.com/images?q=tbn:ANd9GcRGMf36gLcMkMQe-TiiCXyYVvBoES37Evv8x_YdWLNz9EQ3BpzW"/>
          <p:cNvPicPr/>
          <p:nvPr/>
        </p:nvPicPr>
        <p:blipFill>
          <a:blip r:embed="rId2"/>
          <a:stretch/>
        </p:blipFill>
        <p:spPr>
          <a:xfrm>
            <a:off x="3124080" y="2209680"/>
            <a:ext cx="2600280" cy="17528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8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AutoShape 30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3048120" y="45720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guarana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00:29:19Z</dcterms:created>
  <dc:creator>ladmin</dc:creator>
  <dc:description/>
  <dc:language>en-US</dc:language>
  <cp:lastModifiedBy>ladmin</cp:lastModifiedBy>
  <dcterms:modified xsi:type="dcterms:W3CDTF">2013-02-04T01:14:05Z</dcterms:modified>
  <cp:revision>25</cp:revision>
  <dc:subject/>
  <dc:title>Slide 1</dc:title>
</cp:coreProperties>
</file>